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0146-29C1-4DA4-AAC3-4CB8A4D01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5011-D55D-410A-A915-ED7E3A863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39AB-3512-4A0F-B5C7-9CBDEE7AC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38E1-4225-467A-A1E1-EF9F22E76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163B-2540-4ABD-AA7F-C4F4C109A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49DF1-E046-48EC-81A6-F1C0FF473D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8949-7356-4BEB-8553-E8E5E0369A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61EE-4CC6-455D-8748-8F65E502A9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9FAD-B145-4FD1-8824-8BF733489C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3319-63B2-4B71-85AE-6189D6A9B7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59BB-6B91-46A6-9E42-1D5F055A9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51C5-67A9-453F-8620-3B32526FD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0804-FDE8-4AAC-B27D-E55D4601E7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6E3B-6BC6-463A-9ADF-D87CC79422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19E2-E152-487F-A23F-355A36362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FB80-5EEC-4D50-B88A-38446801BD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C981-A977-4536-B8FD-7DE5ADD455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419-9C31-4519-8D8D-EEEE35DDBC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570-21D8-4B28-818C-A746B3B494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F5D-3564-4E8E-AD52-CF91AF3B5D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A57-4651-4ECE-89B4-8C6419FB15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A0B-BCD3-4E37-9490-B102C5F487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D2AF-0BBA-4ED5-A42E-D3FAADAD2C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9FE-583D-4F6D-A86E-3DE01DDBAA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FEC-9D76-4169-B43A-2D035B5F29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170-C2D5-4CCF-97C7-642B83A4C6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E88-937A-416D-A29B-98EBEA2CC3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B35-3529-4EEF-B6E4-A7CCF578CE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3CC-40D5-4B8F-BAD7-BF1DB82415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ED5-1F04-4E29-B3CA-485137351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1447-C4A8-46D6-A41E-5F817955D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1BDD-A6DE-43F1-9CC4-5D3538898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55E7-C20E-4772-B31F-93665BA27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33E4-A0DA-47A4-A8F4-49C22B85F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61CC-98BE-41DE-BF7B-CDE5C3D2B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0D1A-2BF3-42A1-A27B-0C2A6A581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3354-B047-48D0-BF7B-04442F95778F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6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y 200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499"/>
              </a:spcBef>
              <a:buClr>
                <a:srgbClr val="3a0e66"/>
              </a:buClr>
              <a:buFont typeface="Minio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D793-A11F-4ACF-9366-EE089A4C9700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E8F-3DF0-4113-A273-F1AAD1446F4F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r 06, V.2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4FF7-9F7C-4DAA-8087-684846A8406E}" type="slidenum">
              <a:t>1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1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Value Added Enhancements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-2622600" y="766800"/>
            <a:ext cx="0" cy="368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692280"/>
            <a:ext cx="2519640" cy="792000"/>
          </a:xfrm>
          <a:prstGeom prst="rect">
            <a:avLst/>
          </a:prstGeom>
          <a:solidFill>
            <a:srgbClr val="d1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uergen Riesmeyer         Menzie Liang (de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307188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lectron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tina Scho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84720" y="3068640"/>
            <a:ext cx="125856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ch. Eng.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. &amp; Layout</a:t>
            </a:r>
            <a:r>
              <a:rPr b="0" lang="en-US" sz="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old H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3068640"/>
            <a:ext cx="1258920" cy="503280"/>
          </a:xfrm>
          <a:prstGeom prst="rect">
            <a:avLst/>
          </a:prstGeom>
          <a:solidFill>
            <a:srgbClr val="e9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 VAE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/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2050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ens Knapme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155880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CM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tform Compatibility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L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555920"/>
            <a:ext cx="144144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, Planning,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Ulrich Bet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2203560"/>
            <a:ext cx="144144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VAE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echnology &amp; 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 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1484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29080" y="184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429080" y="2490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5440" y="1846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440" y="220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420720" y="249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420720" y="1846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601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4865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4289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3713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24000" y="1770120"/>
            <a:ext cx="179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4000" y="2347920"/>
            <a:ext cx="1792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29224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48428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060640"/>
            <a:ext cx="1152720" cy="46836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lek Al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633760"/>
            <a:ext cx="11509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Minion"/>
              </a:rPr>
              <a:t>PM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edrik Herma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38920" y="3070080"/>
            <a:ext cx="1224000" cy="5032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DQ V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Thorsten Scho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Zouheir Hamza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bin Foster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W/Acous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arkus Ben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wel Greben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367992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hristian Herna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41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n L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67640" y="454500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Jay 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4560" y="36799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Gerhard Bleum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4560" y="41115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einhard 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4560" y="454500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d Splei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14560" y="54086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Koell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4560" y="49766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upert Stoegmue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367812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Joerg Lubi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411012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oc/Lay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Schil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45435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cka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lf Neuha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497520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nv.-Testing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aszlo Koeh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368136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ico Kem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411336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Viktor Flit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454644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Diana Rie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92720" y="54100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Michael Sta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4978440"/>
            <a:ext cx="100800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Klaus Schm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45080" y="3679920"/>
            <a:ext cx="1008360" cy="39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trik Jak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5080" y="4111560"/>
            <a:ext cx="100836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EM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orbert Puet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840280"/>
            <a:ext cx="1008000" cy="39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I&amp;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ernhard Zwi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3427560"/>
            <a:ext cx="1152720" cy="50292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Hans-Klaus Nussbae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400536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reas Grielhues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51544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Ludwig Kund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Frank Templ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4579920"/>
            <a:ext cx="1152720" cy="503280"/>
          </a:xfrm>
          <a:prstGeom prst="rect">
            <a:avLst/>
          </a:prstGeom>
          <a:solidFill>
            <a:srgbClr val="e5f5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M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ject Manager A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effen Pietz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5840" y="55879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62692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2692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2692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2692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6165720"/>
            <a:ext cx="144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s of  01 June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4200" y="3573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92220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220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994200" y="515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220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995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92220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99420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92220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995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72360" y="3573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00360" y="602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300360" y="558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30036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0036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30036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72360" y="429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372360" y="38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30036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91640" y="357336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819640" y="476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819640" y="432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819640" y="389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6836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42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738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2924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15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5013360"/>
            <a:ext cx="1152360" cy="396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C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818560" y="5229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404720" y="292428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F3A7-A38C-4987-AA2D-0C3BB91A2F3C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1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Electronic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ility for HW-, SW- and feature related  part of the TTD </a:t>
            </a:r>
            <a:r>
              <a:rPr b="0" lang="en-US" sz="1200" spc="-1" strike="noStrike">
                <a:solidFill>
                  <a:srgbClr val="000000"/>
                </a:solidFill>
                <a:latin typeface="Minion"/>
              </a:rPr>
              <a:t>(technical terms of delivery)</a:t>
            </a: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for ODM produc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Controlling and checking electronic status of ODM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Supporting the alpha-team on all HW and SW-related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esponsible for the AC product inhouse develop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6118-56D4-483C-943B-37C68EC1EB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2 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echanical Engineering , Documentation, Layou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le for the mechanical part of the TTD for ODM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chanical concept engineering for new AC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the Project Management E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ontrolling and checking the mechanical/tool status of ODM develop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all product related SAP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Technical support and development for retail packag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 AC  CAE-development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D277-51D6-4EED-86AD-CEEE25D172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3920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VAE 3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egration &amp; Test, EMC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714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esponsibility for the HW/SW-Integration Test and the System Test Accessory Device/Mobile Pho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unning the EMC-Test lab; 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EMC debugging for Accessory Devices and for the system AD/Mobi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upporting and Consulting the ODM-development partn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6E1E-EED2-4331-B189-5A1772599D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217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</a:rPr>
              <a:t>Project Management A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AC-products  (ODM-products and inhouse development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the Realization 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ead of the PD-Team A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2" name=""/>
          <p:cNvSpPr/>
          <p:nvPr/>
        </p:nvSpPr>
        <p:spPr>
          <a:xfrm>
            <a:off x="298440" y="331956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Project Management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4149720"/>
            <a:ext cx="856944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roject management for Edition -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itiation and supporting mechanical pre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of Realization Teams 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095A-75B5-46A7-9626-21D3095FE1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P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rocess, Planning, Tool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5920" y="13046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rocess definition and documen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face to Business Administration in terms of budget planning and controll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Internal support for project planning and monitor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Responsible for planning tools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"/>
          <p:cNvSpPr/>
          <p:nvPr/>
        </p:nvSpPr>
        <p:spPr>
          <a:xfrm>
            <a:off x="312840" y="3753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VAE 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inion"/>
                <a:ea typeface="文鼎中黑"/>
              </a:rPr>
              <a:t>Technology and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920" y="468936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R&amp;D VAE member in the Alpha-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arket scanning for technologies available for produc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Initiating technology platforms for AD product families</a:t>
            </a:r>
            <a:r>
              <a:rPr b="1" lang="en-US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852E-A127-4873-9B87-3747797BDD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98080" y="4042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VAE PCM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inion"/>
              </a:rPr>
              <a:t>Platform Compatibility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ingle Entry Point for all VAE-related technical issues for the mobile phone te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ber in all PD-teams of the mobile ph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Interface between the VAE-product teams and the phones PD-team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ED8A-672A-4B07-B217-3ADB7E338D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Juergen Riesmeyer</cp:lastModifiedBy>
  <dcterms:modified xsi:type="dcterms:W3CDTF">2006-05-15T12:11:03Z</dcterms:modified>
  <cp:revision>330</cp:revision>
  <dc:subject/>
  <dc:title>PHE R&amp;D Organization Charts</dc:title>
</cp:coreProperties>
</file>